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2A26-A0CE-479F-9CF3-784735A35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D79E-4FFB-4044-BB76-82080EED8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F32-45E1-4675-A3DE-2A0B8682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156F-AB29-48C2-BF92-8BEF5B83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58E9-9849-40EE-9903-C1DEE690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730D-3D5A-4B61-985A-03E0F92E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0F2-69BB-488E-8619-7336F048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625-6D19-4D69-A578-26E80660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5D2C-6576-4662-9099-633BDEBA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F5BE-BB6B-4AAC-BABB-252F0DB4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AC1D-EEA4-4C67-8A4B-2898F29A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BD8B-73EF-473E-8DA3-F84E8D55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616F-69A8-459B-9740-2BE1D79F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9D11-8AE6-4DC3-92FD-D54AE859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67DD-B3E8-45CC-B030-F93CC006A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3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5"/>
          <p:cNvSpPr/>
          <p:nvPr/>
        </p:nvSpPr>
        <p:spPr>
          <a:xfrm>
            <a:off x="6858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52280" y="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or Book Club Points to 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52280" y="2286000"/>
            <a:ext cx="20574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e on the Milk Cart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oline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s to Po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 face on the Milk Carton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your parents or a relative if they remember seeing a face on the milk car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one now instead of placing a face on the milk car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was a mystery to solve in your life would you solve it? What if solving the mystery could change you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Mr. and Mrs. Johnson in relation to Janie? What would you have done in their situ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6"/>
          <p:cNvSpPr/>
          <p:nvPr/>
        </p:nvSpPr>
        <p:spPr>
          <a:xfrm>
            <a:off x="2438280" y="-1260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or Book Club Points to 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0"/>
          <p:cNvSpPr/>
          <p:nvPr/>
        </p:nvSpPr>
        <p:spPr>
          <a:xfrm>
            <a:off x="4724280" y="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or Book Club Points to 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1"/>
          <p:cNvSpPr/>
          <p:nvPr/>
        </p:nvSpPr>
        <p:spPr>
          <a:xfrm>
            <a:off x="4724280" y="272412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4"/>
          <p:cNvSpPr/>
          <p:nvPr/>
        </p:nvSpPr>
        <p:spPr>
          <a:xfrm>
            <a:off x="7010280" y="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or Book Club Points to 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5"/>
          <p:cNvSpPr/>
          <p:nvPr/>
        </p:nvSpPr>
        <p:spPr>
          <a:xfrm>
            <a:off x="7010280" y="272412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8" descr="j0288938"/>
          <p:cNvPicPr/>
          <p:nvPr/>
        </p:nvPicPr>
        <p:blipFill>
          <a:blip r:embed="rId1"/>
          <a:stretch/>
        </p:blipFill>
        <p:spPr>
          <a:xfrm>
            <a:off x="2743200" y="1066680"/>
            <a:ext cx="1295280" cy="1181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9" descr="j0288938"/>
          <p:cNvPicPr/>
          <p:nvPr/>
        </p:nvPicPr>
        <p:blipFill>
          <a:blip r:embed="rId2"/>
          <a:stretch/>
        </p:blipFill>
        <p:spPr>
          <a:xfrm>
            <a:off x="457200" y="1066680"/>
            <a:ext cx="1295280" cy="99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j0288938"/>
          <p:cNvPicPr/>
          <p:nvPr/>
        </p:nvPicPr>
        <p:blipFill>
          <a:blip r:embed="rId3"/>
          <a:stretch/>
        </p:blipFill>
        <p:spPr>
          <a:xfrm>
            <a:off x="5029200" y="1143000"/>
            <a:ext cx="1295280" cy="1181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1" descr="j0288938"/>
          <p:cNvPicPr/>
          <p:nvPr/>
        </p:nvPicPr>
        <p:blipFill>
          <a:blip r:embed="rId4"/>
          <a:stretch/>
        </p:blipFill>
        <p:spPr>
          <a:xfrm>
            <a:off x="7238880" y="1066680"/>
            <a:ext cx="129564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3"/>
          <p:cNvSpPr/>
          <p:nvPr/>
        </p:nvSpPr>
        <p:spPr>
          <a:xfrm>
            <a:off x="2362320" y="2286000"/>
            <a:ext cx="2133360" cy="42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e on the Milk Cart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oline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s to Po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 face on the Milk Carton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your parents or a relative if they remember seeing a face on the milk car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one now instead of placing a face on the milk car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was a mystery to solve in your life would you solve it? What if solving the mystery could change you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Mr. and Mrs. Johnson in relation to Janie? What would you have done in their situ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4"/>
          <p:cNvSpPr/>
          <p:nvPr/>
        </p:nvSpPr>
        <p:spPr>
          <a:xfrm>
            <a:off x="4648320" y="2438280"/>
            <a:ext cx="2133360" cy="42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e on the Milk Cart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oline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s to Po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 face on the Milk Carton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your parents or a relative if they remember seeing a face on the milk car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one now instead of placing a face on the milk car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was a mystery to solve in your life would you solve it? What if solving the mystery could change you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Mr. and Mrs. Johnson in relation to Janie? What would you have done in their situ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5"/>
          <p:cNvSpPr/>
          <p:nvPr/>
        </p:nvSpPr>
        <p:spPr>
          <a:xfrm>
            <a:off x="6858000" y="2286000"/>
            <a:ext cx="20574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e on the Milk Cart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oline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s to Po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 face on the Milk Carton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your parents or a relative if they remember seeing a face on the milk car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one now instead of placing a face on the milk car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was a mystery to solve in your life would you solve it? What if solving the mystery could change you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Mr. and Mrs. Johnson in relation to Janie? What would you have done in their situ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9:37:40Z</dcterms:created>
  <dc:creator>KISD</dc:creator>
  <dc:description/>
  <dc:language>en-US</dc:language>
  <cp:lastModifiedBy>AISD Employee</cp:lastModifiedBy>
  <dcterms:modified xsi:type="dcterms:W3CDTF">2010-06-01T19:52:25Z</dcterms:modified>
  <cp:revision>6</cp:revision>
  <dc:subject/>
  <dc:title>PowerPoint Presentation</dc:title>
</cp:coreProperties>
</file>